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DEB-4CF7-45D2-B59D-FA981EFD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53B-69D9-432B-9A8C-4C5629C0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01A-500A-49BB-BD9E-E0F39690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F84-6AA7-43ED-B653-662F5DD5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C3DB-7C2A-4003-90AB-9E5AC208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AB0F-245C-474F-973B-C954579F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B7F5-7437-4EB2-9E96-EDC0C046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B333-4C1D-45D3-889A-53EBEAE0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6C3F-B197-4B63-A144-451C4DBB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90C6-735A-4A88-9FED-23712534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D639-2779-4251-AE41-0D830F08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D4C-3F70-426F-B778-EA4AFE29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15FB-49D6-4684-A7DE-B12B9A92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E498-4578-4188-BEB2-E8DEA229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F6B0-93D7-4361-AE11-62ADEB4F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3924-7150-4DA5-89B9-8FDA5FAB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0DEB-9F4C-4EFB-BCCC-BA55D6B8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EA8-8C0D-467C-A2E1-DA35A846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028-4F46-4577-A30B-9F1CB6BB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E65-A3DC-45C5-B739-E83FCCF2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F71-B4F8-4CD9-91B5-9E66BD03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CFE-56BF-49B9-8D30-06E9A522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BC6-B582-47AB-8BDC-DEDE616E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7DA-EA5B-4A96-A714-2F477973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68D3-8629-4E14-A4D2-63D233374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C877-9E49-4702-9DFE-667DE07FF1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panish Game – Colour and Numb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y Miss Black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Match the colours in Spanish to the colours in English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1966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O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P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Pur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Gr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l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3640" y="55897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28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08720" y="328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R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39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Anaranj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800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3080" y="17002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Mo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5950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51640" y="2637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Gr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50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ari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00578E-006 C -0.08177 -0.00185 -0.16337 -0.0037 -0.19497 -0.00416 E">
                                      <p:cBhvr>
                                        <p:cTn id="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12 0.01318 C -0.08629 0.09087 -0.09028 0.16855 -0.11389 0.22035 C -0.1375 0.27214 -0.16632 0.30196 -0.22344 0.32393 C -0.28056 0.3459 -0.41788 0.34682 -0.45677 0.35144 E">
                                      <p:cBhvr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15 -0.03723 C 0.29063 -0.04301 0.49011 -0.04856 0.53872 -0.0689 C 0.58733 -0.08925 0.46719 -0.15237 0.38316 -0.15977 C 0.29913 -0.16717 0.09219 -0.12093 0.03403 -0.1133 E">
                                      <p:cBhvr>
                                        <p:cTn id="1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5555 0.10659 0.11128 0.21318 0.1033 0.30659 C 0.09531 0.4 0.04687 0.55422 -0.04757 0.56023 C -0.14202 0.56624 -0.30278 0.45433 -0.46337 0.34243 E">
                                      <p:cBhvr>
                                        <p:cTn id="1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3.46821E-007 C 0.07588 0.13549 0.15192 0.27121 0.15886 0.3445 C 0.16581 0.4178 0.10244 0.43976 0.04133 0.43976 C -0.01978 0.43976 -0.121 0.36069 -0.2078 0.3445 C -0.29461 0.32832 -0.38697 0.33526 -0.47933 0.34242 E">
                                      <p:cBhvr>
                                        <p:cTn id="2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04 0.01713 C -0.03646 -0.0419 0.05312 -0.10093 0.00937 -0.11852 C -0.03438 -0.13612 -0.21181 -0.11227 -0.38906 -0.08843 E">
                                      <p:cBhvr>
                                        <p:cTn id="2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65 0.02986 C 0.05365 0.0368 0.02882 0.04398 0.09306 0.02361 C 0.15729 0.00324 0.41111 -0.11991 0.46406 -0.09259 C 0.51702 -0.06528 0.51962 0.14838 0.41077 0.18703 C 0.30191 0.22569 0.05625 0.18264 -0.18923 0.13958 E">
                                      <p:cBhvr>
                                        <p:cTn id="3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31 -0.03727 C 0.02361 0.0037 -0.00208 0.0449 0.07188 -0.04375 C 0.14584 -0.13241 0.53073 -0.48287 0.49288 -0.56852 C 0.45504 -0.65417 0.14966 -0.60602 -0.15555 -0.55787 E">
                                      <p:cBhvr>
                                        <p:cTn id="3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36 -0.03194 C 0.08489 -0.03703 0.1026 -0.04213 0.12864 -0.06852 C 0.15468 -0.0949 0.30225 -0.16736 0.22378 -0.19097 C 0.14531 -0.21458 -0.09861 -0.2125 -0.34236 -0.21041 E">
                                      <p:cBhvr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5 -0.03148 C 0.08837 -0.10741 0.13247 -0.1831 0.12986 -0.21435 C 0.12726 -0.2456 0.13368 -0.225 0.0283 -0.21852 C -0.07708 -0.21204 -0.41371 -0.18287 -0.50243 -0.1757 E">
                                      <p:cBhvr>
                                        <p:cTn id="4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Match the numbers in Spanish to the numbers in English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11016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000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6165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357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5157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ua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i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630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S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1700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Si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40720" y="6093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O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14842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Nue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23736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Di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0.03421 C 0.08437 0.27306 0.12552 0.51213 0.07656 0.60693 C 0.0276 0.70219 -0.13854 0.70404 -0.25035 0.60508 C -0.36215 0.50612 -0.47847 0.25965 -0.59479 0.01317 E">
                                      <p:cBhvr>
                                        <p:cTn id="48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2 0.01388 C 0.08715 0.01989 0.10729 0.02613 0.21302 -0.043 C 0.31875 -0.11213 0.73715 -0.30959 0.70191 -0.40046 C 0.66667 -0.49133 0.3342 -0.53988 0.00191 -0.58844 E">
                                      <p:cBhvr>
                                        <p:cTn id="52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14 -0.0037 C 0.07083 0.01411 0.07153 0.03191 0.11302 -0.02913 C 0.15452 -0.09017 0.40156 -0.34774 0.31927 -0.36948 C 0.23698 -0.39121 -0.26406 -0.19514 -0.38073 -0.16023 E">
                                      <p:cBhvr>
                                        <p:cTn id="5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32 0.00186 C 0.09965 -0.01296 0.10799 -0.02754 0.18004 -0.01967 C 0.25208 -0.0118 0.51719 0.09723 0.52361 0.04931 C 0.53004 0.00139 0.32622 -0.24421 0.21875 -0.30764 C 0.11129 -0.37106 -0.00521000000000001 -0.35139 -0.12153 -0.33148 E">
                                      <p:cBhvr>
                                        <p:cTn id="6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35 -0.00092 C 0.07101 0.00718 0.06684 0.01551 0.14792 -0.00092 C 0.229 -0.01736 0.59428 -0.07476 0.56233 -0.09976 C 0.53039 -0.12476 0.05695 -0.14282 -0.04409 -0.15138 E">
                                      <p:cBhvr>
                                        <p:cTn id="6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63 -0.0088 C 0.07586 0.0125 0.0901 0.03379 0.14548 -0.04329 C 0.20086 -0.12037 0.46441 -0.41759 0.39392 -0.4713 C 0.32343 -0.525 0.02309 -0.4456 -0.27709 -0.36597 E">
                                      <p:cBhvr>
                                        <p:cTn id="6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18 0.00277 C 0.09496 -0.00417 0.09774 -0.01111 0.13246 0.01782 C 0.16701 0.04676 0.35364 0.11944 0.30017 0.17708 C 0.2467 0.23472 -0.10712 0.33287 -0.18855 0.36412 E">
                                      <p:cBhvr>
                                        <p:cTn id="7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43 -0.04399 C 0.05816 0.00463 0.06388 0.05347 0.05416 -0.06783 C 0.04444 -0.18912 0.04166 -0.7382 -0.00556 -0.77107 C -0.05278 -0.80394 -0.17327 -0.27338 -0.22969 -0.26551 C -0.28612 -0.25764 -0.27813 -0.73334 -0.34428 -0.72361 C -0.41042 -0.71389 -0.51858 -0.46065 -0.62657 -0.20741 E">
                                      <p:cBhvr>
                                        <p:cTn id="7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7 0.03425 C 0.00208 0.01643 -0.04271 -0.00117 0.06458 0.03633 C 0.17187 0.07383 0.6533 0.18425 0.69045 0.25994 C 0.7276 0.33564 0.38264 0.50416 0.28715 0.49027 C 0.19167 0.47638 0.16094 0.16573 0.11788 0.17615 C 0.07483 0.18657 0.05191 0.36944 0.02917 0.55254 E">
                                      <p:cBhvr>
                                        <p:cTn id="8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892 0.02083 C 0.03507 0.02361 0.00122 0.02639 0.13837 0.01667 C 0.27552 0.00695 0.84201 -0.00741 0.89149 -0.03727 C 0.94097 -0.06713 0.42778 -0.11319 0.43507 -0.1618 C 0.44219 -0.21042 0.93663 -0.27014 0.9349 -0.32963 C 0.93351 -0.38912 0.42778 -0.45278 0.42535 -0.51898 C 0.42292 -0.58518 0.95226 -0.69676 0.92031 -0.72755 C 0.88837 -0.75833 0.35747 -0.80903 0.23351 -0.70393 C 0.10938 -0.59884 0.18507 -0.19861 0.17535 -0.09745 E">
                                      <p:cBhvr>
                                        <p:cTn id="8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76720" y="59500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Le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64000" y="4221000"/>
            <a:ext cx="1692360" cy="18226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b7e7ff"/>
                </a:solidFill>
                <a:latin typeface="Arial"/>
              </a:rPr>
              <a:t>Knock, knock</a:t>
            </a:r>
            <a:br>
              <a:rPr sz="3200"/>
            </a:br>
            <a:r>
              <a:rPr b="0" lang="en-AU" sz="3200" spc="-1" strike="noStrike">
                <a:solidFill>
                  <a:srgbClr val="b7e7ff"/>
                </a:solidFill>
                <a:latin typeface="Arial"/>
              </a:rPr>
              <a:t>Who’s there?</a:t>
            </a:r>
            <a:br>
              <a:rPr sz="3200"/>
            </a:br>
            <a:r>
              <a:rPr b="0" lang="en-AU" sz="3200" spc="-1" strike="noStrike">
                <a:solidFill>
                  <a:srgbClr val="b7e7ff"/>
                </a:solidFill>
                <a:latin typeface="Arial"/>
              </a:rPr>
              <a:t>Golpe, golpe. </a:t>
            </a:r>
            <a:br>
              <a:rPr sz="3200"/>
            </a:br>
            <a:r>
              <a:rPr b="0" lang="en-AU" sz="3200" spc="-1" strike="noStrike">
                <a:solidFill>
                  <a:srgbClr val="b7e7ff"/>
                </a:solidFill>
                <a:latin typeface="Arial"/>
              </a:rPr>
              <a:t>¿Quién está allí?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1844640"/>
            <a:ext cx="3168360" cy="4390920"/>
            <a:chOff x="0" y="1844640"/>
            <a:chExt cx="3168360" cy="4390920"/>
          </a:xfrm>
        </p:grpSpPr>
        <p:sp>
          <p:nvSpPr>
            <p:cNvPr id="111" name=""/>
            <p:cNvSpPr/>
            <p:nvPr/>
          </p:nvSpPr>
          <p:spPr>
            <a:xfrm>
              <a:off x="0" y="1844640"/>
              <a:ext cx="3168360" cy="43909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47640" y="393192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156360" y="981000"/>
            <a:ext cx="2808360" cy="2232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oa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ugi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2.36994E-006 C -0.12761 -0.11908 -0.25521 -0.23792 -0.30626 -0.28555 E">
                                      <p:cBhvr>
                                        <p:cTn id="9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4149720"/>
            <a:ext cx="1692360" cy="1822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564000" y="1989000"/>
            <a:ext cx="3168360" cy="4390920"/>
            <a:chOff x="3564000" y="1989000"/>
            <a:chExt cx="3168360" cy="4390920"/>
          </a:xfrm>
        </p:grpSpPr>
        <p:sp>
          <p:nvSpPr>
            <p:cNvPr id="117" name=""/>
            <p:cNvSpPr/>
            <p:nvPr/>
          </p:nvSpPr>
          <p:spPr>
            <a:xfrm>
              <a:off x="3564000" y="1989000"/>
              <a:ext cx="3168360" cy="43909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11640" y="407628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156360" y="981000"/>
            <a:ext cx="2808360" cy="2232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oa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ugi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66667E-006 C -0.05364 -0.06158 -0.10729 -0.12292 -0.16667 -0.11552 C -0.22604 -0.10811 -0.29149 -0.03195 -0.35677 0.04444 E">
                                      <p:cBhvr>
                                        <p:cTn id="9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0:23:19Z</dcterms:created>
  <dc:creator>Computer</dc:creator>
  <dc:description/>
  <dc:language>en-US</dc:language>
  <cp:lastModifiedBy>Computer</cp:lastModifiedBy>
  <dcterms:modified xsi:type="dcterms:W3CDTF">2008-08-15T02:02:56Z</dcterms:modified>
  <cp:revision>5</cp:revision>
  <dc:subject/>
  <dc:title>Spanish Game – Colour and Numbers</dc:title>
</cp:coreProperties>
</file>